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706-0CC5-42A7-A1CA-3B7E03A2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E1A-8BEC-4095-B0F5-1C7FEE8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6AC-8928-44F9-845A-39FB81C4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E8B-44A9-4AF8-BEF7-AE855A4A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D8A-4DDD-4B35-A1EC-17F4811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B72-7219-4EC1-8476-67C5944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FEB-43BC-4F9B-B124-6BC47B0C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F22-9D8F-4367-A8B0-32AD299E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C19-4C49-4043-8A02-292B8A72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C44-7FA5-4FF7-82FC-95C4FF1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592-F7C3-4C32-9CBD-1334186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124-2B35-452B-8639-1804106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867-2D3A-431C-89D3-453432F1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3962520"/>
            <a:ext cx="758196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Author Info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235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g_1857" descr=""/>
          <p:cNvPicPr/>
          <p:nvPr/>
        </p:nvPicPr>
        <p:blipFill>
          <a:blip r:embed="rId1"/>
          <a:srcRect l="27676" t="0" r="28044" b="247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828000">
            <a:off x="762120" y="373392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orte"/>
              </a:rPr>
              <a:t>Background Inf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2168400">
            <a:off x="1218960" y="2362320"/>
            <a:ext cx="828036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LITERARY ELEMENTS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48" name=""/>
          <p:cNvSpPr/>
          <p:nvPr/>
        </p:nvSpPr>
        <p:spPr>
          <a:xfrm rot="20508600">
            <a:off x="0" y="8377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680" y="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820400">
            <a:off x="380160" y="266652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866400">
            <a:off x="6312600" y="5214240"/>
            <a:ext cx="173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089800">
            <a:off x="777276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ackground" descr=""/>
          <p:cNvPicPr/>
          <p:nvPr/>
        </p:nvPicPr>
        <p:blipFill>
          <a:blip r:embed="rId1"/>
          <a:srcRect l="0" t="0" r="0" b="18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9480" y="3048120"/>
            <a:ext cx="7848720" cy="33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Challenging Voc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920"/>
            <a:ext cx="21333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5181480"/>
            <a:ext cx="2438280" cy="1447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AU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876920"/>
            <a:ext cx="2819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BU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0880"/>
            <a:ext cx="2438280" cy="1447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90720" y="304920"/>
            <a:ext cx="6933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urlz MT"/>
              </a:rPr>
              <a:t>THEM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4657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luenebula" descr=""/>
          <p:cNvPicPr/>
          <p:nvPr/>
        </p:nvPicPr>
        <p:blipFill>
          <a:blip r:embed="rId1"/>
          <a:srcRect l="21979" t="8855" r="0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3166200">
            <a:off x="-509400" y="2719080"/>
            <a:ext cx="6553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Work Cite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21:55Z</dcterms:created>
  <dc:creator>John</dc:creator>
  <dc:description/>
  <dc:language>en-US</dc:language>
  <cp:lastModifiedBy>John</cp:lastModifiedBy>
  <dcterms:modified xsi:type="dcterms:W3CDTF">2009-05-20T02:03:46Z</dcterms:modified>
  <cp:revision>2</cp:revision>
  <dc:subject/>
  <dc:title>Slide 1</dc:title>
</cp:coreProperties>
</file>